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chimes.wav" ContentType="audio/x-wav"/>
  <Override PartName="/ppt/media/image7.wmf" ContentType="image/x-wmf"/>
  <Override PartName="/ppt/media/MSj00748430000%5B1%5D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2EB-A1D9-4EA8-95B5-0EA931CB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275-4CDE-4102-BDCB-CA63FA28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E09-BAB2-4F5A-9360-1158B696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835-5C57-4647-9748-35057027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5AC0-DA45-4920-ADD7-23DFD6D9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FA86-037B-4584-A446-40996863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E2F-B8FE-4277-AD93-B32B0D7B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96B8-4FC9-4774-BDC1-DE6CB7D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B0A4-CF5E-42CB-B670-3B79728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9A65-87F4-4DED-966E-0F08350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C46-915F-4DC9-AB9B-D5D48BA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A9E-F0A2-48C9-9578-A730569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A426-3C46-40D7-BF26-76FF319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B266-8A2C-4A16-86B9-5B4F95E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422-9EA4-4941-8F56-854DE09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6A7A-AA02-4AFA-A8F4-E86A258D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9334-4A5A-4095-91AD-DCCA176F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B39-9ECD-4286-A755-E9FD09E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DBB-DA47-4A17-81BF-64BD6DE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008-1C81-44DA-B491-48E1C8F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E7F-8CFB-4837-9DF4-B1D1979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256-49D3-4203-8E75-010080D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028-F939-4F04-A16C-F760A3D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7E7-586C-4E4C-9C43-F888826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7F62-DBC9-4817-9A62-3D89FF3DB8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F27-CE2C-476C-A7D7-6C54CEB3D8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4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ll done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set of words…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getting so clever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08108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j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154296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j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1495440" cy="1797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109872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527120" cy="1814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03280" y="1916280"/>
            <a:ext cx="50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151308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000160" cy="287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0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23:27Z</dcterms:modified>
  <cp:revision>10</cp:revision>
  <dc:subject/>
  <dc:title>Making Words</dc:title>
</cp:coreProperties>
</file>